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B1D-211E-4174-BA67-CC071EF8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41B-DFDA-401E-8579-233AE451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D36-28C6-4847-9785-EE03FA87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9DE-BDA5-4733-B455-901F4BB2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9058A-49AB-4A0A-81AF-F258E526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109FA-1FE1-4A9F-820B-87665A6D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8BB92-E96B-4AD4-8D90-113358AF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F5070-65AA-49CC-BE93-3E9A39DB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FD1FF-C310-418C-8FA7-93C7CD3D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A2008-0944-428E-BEB1-E8A1E46F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7668E-A1E3-4C10-B6E5-A55A3DB1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C5E1-D8EF-4B07-9485-A3244639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BDD94-090B-4B91-A145-5D8638E5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3BBB1-B87B-45EA-83B4-B98E48A4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96CAA-636E-4B99-8B04-F6376B80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B4564-AE04-44E1-9280-8C7409C8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416D6-2698-4783-9AD4-5DA61166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2D3-EC33-4EDB-A073-21C5E964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75C-339F-4597-817A-4664D06E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9D1-0ABA-4B47-9DD9-D97EED70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8C8-4695-44A6-A352-98230A1C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35B-B7D0-4DF2-9F8A-A8855999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6D0-DEC8-4FA5-8AF6-40F251B9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1D9-0F10-4D92-9DCE-3EEF24C9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75D1-F2D7-45BC-BACD-0EEA1BF1BA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AAB5-222C-4F34-85DF-341D034BC3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3280" y="476280"/>
            <a:ext cx="7416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comic"/>
              </a:rPr>
              <a:t>                   </a:t>
            </a:r>
            <a:r>
              <a:rPr b="0" lang="en-US" sz="3600" spc="-1" strike="noStrike">
                <a:solidFill>
                  <a:srgbClr val="e3e3ff"/>
                </a:solidFill>
                <a:latin typeface="comic"/>
              </a:rPr>
              <a:t>LAVANDO CARRO</a:t>
            </a:r>
            <a:br>
              <a:rPr sz="3600"/>
            </a:br>
            <a:r>
              <a:rPr b="0" lang="en-US" sz="2800" spc="-1" strike="noStrike">
                <a:solidFill>
                  <a:srgbClr val="e3e3ff"/>
                </a:solidFill>
                <a:latin typeface="comic"/>
              </a:rPr>
              <a:t>LAVAR O CARRO  COM UMA MANGUEIRA GASTA ATÉ 560 LITROS DE ÁGUA EM 30 MINUTO QUANDO PRECISAR LAVAR O CARRO, USE UM BALDE!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369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comic"/>
              </a:rPr>
              <a:t>AQUÁR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56880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QUANDO FOR LIMPAR O AQUÁRIO,APROVEITAR A  ÁGUA PARA REGAR  AS PLANTA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2:10:56Z</dcterms:created>
  <dc:creator>aluno</dc:creator>
  <dc:description/>
  <dc:language>en-US</dc:language>
  <cp:lastModifiedBy>aluno</cp:lastModifiedBy>
  <dcterms:modified xsi:type="dcterms:W3CDTF">2010-10-25T12:06:53Z</dcterms:modified>
  <cp:revision>5</cp:revision>
  <dc:subject/>
  <dc:title>LAVANDO  CARRO          </dc:title>
</cp:coreProperties>
</file>